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510-A49F-48B8-B35E-4F794F56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082-4959-4F21-92AD-AB00F68D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8260-AADC-41F5-B7BF-0FD0B8B4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0E9-E475-4805-8B0D-BA900D3D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E9B-C0E0-44A0-8C7D-1583A3A0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7A7-F7DA-4275-AC6A-C2FB2A3C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F59E-B9A3-4B5B-8120-9091C404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413-BCE7-4492-ADF2-C8EAE8CE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B3B-7630-45F9-87C8-AEC0A9FE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2F4-3FB9-46C0-B6F9-A3B231C5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581-3565-4EEF-9017-6355E163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8B2F-C1BF-4BD5-BFE2-BDB6F5DD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0E86-9517-4D8D-A298-48418F532C3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Volcano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Volcanoes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are formed along two types of plate boundary: destructive and constructive boundarie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basic shape of a volcano is similar throughout the world, however there are many factors which influence how the volcano is buil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Volcanoes occur where molten rock (magma) is allowed to escape to the surface of the earth. This usually occurs at plate boundaries through cracks in the crust called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vents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Once it has reached the surface, the magma becomes known as lava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composition of the lava determines the shape of the final volcan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Volcanoes also throw out ash, steam, dust, pumice, and gases, which can be poisonous. However it is the lava that mainly helps to shape the volcan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re are three main volcanic cones: acid lava cones, composite cones and basic lava con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cid C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library.thinkquest.org/21988/volcano/images/acid.jpg"/>
          <p:cNvPicPr/>
          <p:nvPr/>
        </p:nvPicPr>
        <p:blipFill>
          <a:blip r:embed="rId1"/>
          <a:stretch/>
        </p:blipFill>
        <p:spPr>
          <a:xfrm>
            <a:off x="971640" y="1773360"/>
            <a:ext cx="72118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hield C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scioly.org/w/images/e/e9/Slide19.jpg"/>
          <p:cNvPicPr/>
          <p:nvPr/>
        </p:nvPicPr>
        <p:blipFill>
          <a:blip r:embed="rId1"/>
          <a:stretch/>
        </p:blipFill>
        <p:spPr>
          <a:xfrm>
            <a:off x="900000" y="1268280"/>
            <a:ext cx="717552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mposite C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worldlywise.pbworks.com/f/1272807397/composite%20volcano.jpg"/>
          <p:cNvPicPr/>
          <p:nvPr/>
        </p:nvPicPr>
        <p:blipFill>
          <a:blip r:embed="rId1"/>
          <a:stretch/>
        </p:blipFill>
        <p:spPr>
          <a:xfrm>
            <a:off x="982800" y="128592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4:50:33Z</dcterms:created>
  <dc:creator>Dell_02</dc:creator>
  <dc:description/>
  <dc:language>en-US</dc:language>
  <cp:lastModifiedBy>Dell_02</cp:lastModifiedBy>
  <dcterms:modified xsi:type="dcterms:W3CDTF">2011-01-26T05:05:30Z</dcterms:modified>
  <cp:revision>2</cp:revision>
  <dc:subject/>
  <dc:title>Volcanoes</dc:title>
</cp:coreProperties>
</file>